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– 4 videos, each are about 2 minutes in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re is a group of 3, then C &amp; D could be combined… Part C has lots of ch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 Create a graph, symbol, picture, word splash, poem, etc. that demonstrates the key characterist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09FB5-2F1F-412A-A067-838AD5E987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AB37A-957F-452F-8CEF-5F9F98F669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C4A3A-9524-42AE-A5FB-3A2DD0F1CB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447ED-AE17-46EB-89C1-C8ED8E7EAD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42354-B271-47AF-ACB2-E56F4FF618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8F30E-4458-4DB7-A996-7158157D66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D0909-6ABE-4822-AEE8-0EE913A84F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0CB33-D297-4965-9120-841BBE402A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67D18-9B0E-4728-A7C3-D4940669DE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BA07F-F9F6-4A6D-80C3-5E4B9462A8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A7D39-01A5-48C9-9F91-5E6C256AD7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5D4E3-9743-4A7B-A29D-06CA0627AE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68571-FD8E-46A9-8BE6-BD2380B6458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99D0B-96C7-4923-832A-B18B9A33ECE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Algebraic Thinking Session #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Responding to Students Over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tion: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esponding to Video ~15 min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ight you respond effectively to this pair of stu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akes your suggested response effect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8C0C1-F679-4AD4-A7B4-FF4DB40474E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tion: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sponding with Time ~20 min</a:t>
            </a:r>
            <a:endParaRPr b="0" lang="en-US" sz="32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281160" indent="-241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 the samples of student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41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 how you will respond to this small group of students during tomorrow’s les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708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mathematics will you focus on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708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ill you sa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708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question(s) will you ask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41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k one representative sample to share with the whole grou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41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EC4EC-0FD3-4066-8D96-E13751ABB64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90360"/>
            <a:ext cx="84582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tion: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esponding with Time ~15 min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presentative sam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verview of your response to this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3C301-C511-4DB3-B73E-D1DB1C9B35D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Arial"/>
              </a:rPr>
              <a:t>Consolidate: Reflec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of these groups of students are in the same class.  Now wh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manage differentiated responses to the individuals and small groups in our class who have different learning nee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4DDE7-3828-4EBD-BE93-23978103880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Arial"/>
              </a:rPr>
              <a:t>Consolidate: Video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429000" y="1600200"/>
            <a:ext cx="4572000" cy="3581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you feeling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gre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yello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7B64E-A90B-4406-AE9D-8F9CBD3706A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Z:\Clip Art\Road Signs\Traffic Signals\Signal 54.wmf"/>
          <p:cNvPicPr/>
          <p:nvPr/>
        </p:nvPicPr>
        <p:blipFill>
          <a:blip r:embed="rId1"/>
          <a:stretch/>
        </p:blipFill>
        <p:spPr>
          <a:xfrm>
            <a:off x="401760" y="1447920"/>
            <a:ext cx="1447560" cy="39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Arial"/>
              </a:rPr>
              <a:t>Consolidate: Reflec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 on today’s se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feel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feel 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gre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feel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yello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10BA8-0B26-4F5D-A306-C42372EBA23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Z:\Clip Art\Travel &amp; Leisure\Vacations (F - Q)\Map.wmf"/>
          <p:cNvPicPr/>
          <p:nvPr/>
        </p:nvPicPr>
        <p:blipFill>
          <a:blip r:embed="rId1"/>
          <a:stretch/>
        </p:blipFill>
        <p:spPr>
          <a:xfrm>
            <a:off x="6553080" y="195120"/>
            <a:ext cx="1227240" cy="1141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Z:\Clip Art\Travel &amp; Leisure\Vacations (F - Q)\Passport 1.wmf"/>
          <p:cNvPicPr/>
          <p:nvPr/>
        </p:nvPicPr>
        <p:blipFill>
          <a:blip r:embed="rId2"/>
          <a:stretch/>
        </p:blipFill>
        <p:spPr>
          <a:xfrm rot="21444000">
            <a:off x="7997400" y="510840"/>
            <a:ext cx="838440" cy="10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lgebraic Thinking ~ Session #3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950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Learning Go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 on characteristics of effective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 on and extend personal repertoire of question stems to be used when responding in the mo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F6E45-338C-4310-97AE-CDA903FAEB4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934BF-8CCE-453E-878F-F4CF47C34DD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lgebraic Thinking ~ Session #3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292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Learning Go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 on  and extend personal repertoire of strategies for responding to groups of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re strategies that facilitate multiple responses within a single class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mathematical thinking in a range of responses to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B7DB-0B69-4EE8-8781-088D6F5CF5D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65438-13D7-46E5-95F2-BD3F1CF572A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Arial"/>
              </a:rPr>
              <a:t>Minds On: Think/Pair/Shar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of a time when you received feedback that really helped you to impr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d the feedback look like?  Feel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ade it effect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F4149-5EBB-4261-A6B4-69B1617C495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Z:\Clip Art\Sports\Cartoons (A - Ba)\Baseball - Coach 3.wmf"/>
          <p:cNvPicPr/>
          <p:nvPr/>
        </p:nvPicPr>
        <p:blipFill>
          <a:blip r:embed="rId1"/>
          <a:stretch/>
        </p:blipFill>
        <p:spPr>
          <a:xfrm>
            <a:off x="6248520" y="4419720"/>
            <a:ext cx="2746080" cy="215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Arial"/>
              </a:rPr>
              <a:t>Minds On: Self Assessmen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93A86-F8B0-4157-B080-037D1F977B4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581040" y="1143000"/>
            <a:ext cx="7572240" cy="4300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Z:\Clip Art\Travel &amp; Leisure\Vacations (F - Q)\Map.wmf"/>
          <p:cNvPicPr/>
          <p:nvPr/>
        </p:nvPicPr>
        <p:blipFill>
          <a:blip r:embed="rId2"/>
          <a:stretch/>
        </p:blipFill>
        <p:spPr>
          <a:xfrm>
            <a:off x="228600" y="617400"/>
            <a:ext cx="928800" cy="863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Z:\Clip Art\Travel &amp; Leisure\Vacations (F - Q)\Passport 1.wmf"/>
          <p:cNvPicPr/>
          <p:nvPr/>
        </p:nvPicPr>
        <p:blipFill>
          <a:blip r:embed="rId3"/>
          <a:stretch/>
        </p:blipFill>
        <p:spPr>
          <a:xfrm rot="21444000">
            <a:off x="8226360" y="550440"/>
            <a:ext cx="622440" cy="81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tion: Create a Group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into a group of 4 people based on your preferred learning sty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de who is A, B, C, and D based on years of teaching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– least hair  through to D - most 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F361B-90A7-4A19-9124-AF2957F64E5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Z:\Clip Art\Clothing &amp; Accessories\Glasses\Eyeglasses 16.wmf"/>
          <p:cNvPicPr/>
          <p:nvPr/>
        </p:nvPicPr>
        <p:blipFill>
          <a:blip r:embed="rId1"/>
          <a:stretch/>
        </p:blipFill>
        <p:spPr>
          <a:xfrm>
            <a:off x="1371600" y="2743200"/>
            <a:ext cx="1266840" cy="914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Z:\Clip Art\Cartoons\Make Your Own! (A - Ha)\Ear 6.wmf"/>
          <p:cNvPicPr/>
          <p:nvPr/>
        </p:nvPicPr>
        <p:blipFill>
          <a:blip r:embed="rId2"/>
          <a:stretch/>
        </p:blipFill>
        <p:spPr>
          <a:xfrm>
            <a:off x="6858000" y="2292480"/>
            <a:ext cx="581040" cy="1447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Z:\Clip Art\People\Cartoons (Ma - Ma) 1\Man Running 02.wmf"/>
          <p:cNvPicPr/>
          <p:nvPr/>
        </p:nvPicPr>
        <p:blipFill>
          <a:blip r:embed="rId3"/>
          <a:stretch/>
        </p:blipFill>
        <p:spPr>
          <a:xfrm>
            <a:off x="4038480" y="2666880"/>
            <a:ext cx="1168560" cy="121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66640" y="228600"/>
            <a:ext cx="63198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tion:</a:t>
            </a:r>
            <a:br>
              <a:rPr sz="44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esearch Article ~10 min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6840" y="3187440"/>
            <a:ext cx="8381880" cy="3276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and Highlig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~ Feedback as Part of Formative Assessment (pp 1-2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~ What the Research Shows (pp 3-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~ Feedback Strategies and Content (pp 4-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~ Feedback and Grading (pp 7-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A4FD9-F4DF-49F0-AFF2-FC8968DC381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1685880" cy="1884240"/>
          </a:xfrm>
          <a:prstGeom prst="rect">
            <a:avLst/>
          </a:prstGeom>
          <a:ln w="0">
            <a:noFill/>
          </a:ln>
        </p:spPr>
      </p:pic>
      <p:sp>
        <p:nvSpPr>
          <p:cNvPr id="79" name="TextBox 5"/>
          <p:cNvSpPr/>
          <p:nvPr/>
        </p:nvSpPr>
        <p:spPr>
          <a:xfrm>
            <a:off x="233280" y="237636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 Susan Brookh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loud Callout 4"/>
          <p:cNvSpPr/>
          <p:nvPr/>
        </p:nvSpPr>
        <p:spPr>
          <a:xfrm>
            <a:off x="4495680" y="1676520"/>
            <a:ext cx="4496040" cy="1511280"/>
          </a:xfrm>
          <a:prstGeom prst="cloudCallout">
            <a:avLst>
              <a:gd name="adj1" fmla="val -47884"/>
              <a:gd name="adj2" fmla="val 465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are the characteristics of effective feedbac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tion: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hare and Summarize ~15 min</a:t>
            </a:r>
            <a:endParaRPr b="0" lang="en-US" sz="32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 what you read using a Round Robin form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ize the key characteristics of effective feed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ay wish to choose a product that aligns with your preferred learning sty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 your product with the large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12D77-9906-4C78-A20E-AE2D01C13F1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tion:  Responding to Video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e 9 students are responding to this ques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umber called A is 20% of a number called B. But A is 40% of C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know about B and 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C9F00-FB15-4662-AF82-B7D352F7389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Robin</cp:lastModifiedBy>
  <dcterms:modified xsi:type="dcterms:W3CDTF">2011-08-10T13:25:23Z</dcterms:modified>
  <cp:revision>23</cp:revision>
  <dc:subject/>
  <dc:title>&lt;Title&gt;</dc:title>
</cp:coreProperties>
</file>